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28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2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CC03-2319-4613-B2F3-F8469B21B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740F-5802-429B-8DBD-14E58BE49C7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1 Бионеорганска хемија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број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ађ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ој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њен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tCl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у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постављ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о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н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с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и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l-SI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ила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на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428616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ксилат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алат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нат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035.jpg"/>
          <p:cNvPicPr/>
          <p:nvPr/>
        </p:nvPicPr>
        <p:blipFill>
          <a:blip r:embed="rId1"/>
          <a:stretch/>
        </p:blipFill>
        <p:spPr>
          <a:xfrm>
            <a:off x="5715000" y="789120"/>
            <a:ext cx="2773440" cy="3217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28760" y="1071720"/>
            <a:ext cx="507204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H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 &gt;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ова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H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циј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з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ласич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уп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036.jpg"/>
          <p:cNvPicPr/>
          <p:nvPr/>
        </p:nvPicPr>
        <p:blipFill>
          <a:blip r:embed="rId1"/>
          <a:stretch/>
        </p:blipFill>
        <p:spPr>
          <a:xfrm>
            <a:off x="2214720" y="3494160"/>
            <a:ext cx="43574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а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и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ло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K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1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73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и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1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бутилдикарбоксил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ро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жал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р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али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а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ињ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а                     Ипроплатина                Лабопла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алиплатина                         Мален, ЈМ-40               Ормапла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ипла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М-221                                     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A-2114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428840" y="928800"/>
          <a:ext cx="603072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928800"/>
                    <a:ext cx="603072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3"/>
          <p:cNvGraphicFramePr/>
          <p:nvPr/>
        </p:nvGraphicFramePr>
        <p:xfrm>
          <a:off x="1428840" y="2643120"/>
          <a:ext cx="5984640" cy="14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8840" y="2643120"/>
                    <a:ext cx="59846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8"/>
          <p:cNvGraphicFramePr/>
          <p:nvPr/>
        </p:nvGraphicFramePr>
        <p:xfrm>
          <a:off x="539640" y="4365720"/>
          <a:ext cx="2960640" cy="14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365720"/>
                    <a:ext cx="29606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9"/>
          <p:cNvGraphicFramePr/>
          <p:nvPr/>
        </p:nvGraphicFramePr>
        <p:xfrm>
          <a:off x="3492360" y="4365720"/>
          <a:ext cx="2265480" cy="22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365720"/>
                    <a:ext cx="226548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0"/>
          <p:cNvGraphicFramePr/>
          <p:nvPr/>
        </p:nvGraphicFramePr>
        <p:xfrm>
          <a:off x="6156360" y="4581360"/>
          <a:ext cx="2232000" cy="149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4581360"/>
                    <a:ext cx="22320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линичк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обичаје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уклеа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с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ов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инциклохекса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азећ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н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99980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вен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Cl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и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мење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ђ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м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бласти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иамици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терапиј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остат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а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оксич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ц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нито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Е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нтролисан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лика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крип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мен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Комплекси п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ске групе мет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14200" y="642600"/>
            <a:ext cx="34005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l-SI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целуларној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4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,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целуларној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ог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ј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битног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ј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slika3 copy"/>
          <p:cNvPicPr/>
          <p:nvPr/>
        </p:nvPicPr>
        <p:blipFill>
          <a:blip r:embed="rId1"/>
          <a:stretch/>
        </p:blipFill>
        <p:spPr>
          <a:xfrm>
            <a:off x="4071960" y="1428840"/>
            <a:ext cx="4711680" cy="35431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3741840" y="4929120"/>
            <a:ext cx="5375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н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ост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м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о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у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071720"/>
            <a:ext cx="34718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г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нстве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ск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у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охондријално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п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нстве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з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00680" y="1285920"/>
          <a:ext cx="472428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1285920"/>
                    <a:ext cx="472428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ментар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венц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инск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миднинск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ље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2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от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ц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%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2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з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от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ц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ункционал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3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ц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ините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он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јућ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ћ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целуларн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постављ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ј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ра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о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м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оват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т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сн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ог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кидив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актив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активирај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рш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ктив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500200" y="2071800"/>
          <a:ext cx="426888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2071800"/>
                    <a:ext cx="42688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рвоа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едије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активир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ју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ива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тилдитиокарбамат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уре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тион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енозил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омоцистеин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500040" y="1000080"/>
          <a:ext cx="41432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000080"/>
                    <a:ext cx="41432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3"/>
          <p:cNvGraphicFramePr/>
          <p:nvPr/>
        </p:nvGraphicFramePr>
        <p:xfrm>
          <a:off x="714240" y="4143240"/>
          <a:ext cx="534672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143240"/>
                    <a:ext cx="53467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4"/>
          <p:cNvGraphicFramePr/>
          <p:nvPr/>
        </p:nvGraphicFramePr>
        <p:xfrm>
          <a:off x="4716360" y="1773360"/>
          <a:ext cx="4213440" cy="24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1773360"/>
                    <a:ext cx="421344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ћ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р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д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ант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латина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е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сулф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тилдитиокарбам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уре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он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т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аптоетансулфон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ам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д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к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2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ункциона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инск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мидинск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онуклеотид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р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ећ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ид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м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араг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јашња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ће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вен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а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олекулск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9288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син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нож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ц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њ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њ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есенцијал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број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алазак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м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ц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иј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нути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о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њил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ад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ч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(II)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КТИВ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t(I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C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у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ећ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BDCA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јућ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ктива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sr-Latn-C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0" lang="sr-Latn-C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н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чн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t(I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њ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уј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ран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адијум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ће антитуморских особина поменутих комплекса платине повећало је интересовање ка добијању евентуално ефикаснијих комплекса других метала и лиганад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 првим комплексима коришћеним у клиничким испитивањима против тумора били су комплекси паладијума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то аналози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индихлоридопаладијум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хександихлоридопаладијум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CH)]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3"/>
          <p:cNvGraphicFramePr/>
          <p:nvPr/>
        </p:nvGraphicFramePr>
        <p:xfrm>
          <a:off x="1258920" y="2205000"/>
          <a:ext cx="212256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21225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5"/>
          <p:cNvGraphicFramePr/>
          <p:nvPr/>
        </p:nvGraphicFramePr>
        <p:xfrm>
          <a:off x="5364000" y="2349360"/>
          <a:ext cx="2895840" cy="179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349360"/>
                    <a:ext cx="289584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1476360" y="436572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s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CH)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 први резултати нису показали значајну антитуморску активност комплекса паладијума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ви комплекси су ипак много шире проучав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вном су комплекси паладијума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бог велике реактивности показивали нижу антитуморску активност од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 се да је нижа активност ових комплекса последица јако брзе измене лиганада и немогућности комплекса да непромењене стуктуре стигне до биолошке мете, чиме је повећан ризик од неповољних ефеката на биохемијске процесе у ћелиј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превазилажења оваквих проблема многи аутори су предлагали да се паладијум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координује за хелатне лиганде, чиме би се смањила реактивност паладијумовог центра повећавајући стабилност награђеног комплек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 активност комплекса, односно успех лека,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и од коришћеног лиганда за координовањ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р од лиганда зависи 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активнос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офилнос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стабилизовање одређених оксидационих стања метала или могућност супституциј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ада је једина примена паладијума у медицини у лечењу брзорастућег канцера простате и то користећи радиоактивни изотоп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и комплекси паладијума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и показују активност сличну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арбоплат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паладијума са лигандом који је дериват кумарина  показује приближно 7800 пута већу активност у односу 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у на ћелијама А549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Тиме је потврђена претпоставка да са волуминознијим лигандима комплекси показују бољу антитуморску активно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3"/>
          <p:cNvGraphicFramePr/>
          <p:nvPr/>
        </p:nvGraphicFramePr>
        <p:xfrm>
          <a:off x="2700360" y="1268280"/>
          <a:ext cx="338436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38436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Box 2"/>
          <p:cNvSpPr/>
          <p:nvPr/>
        </p:nvSpPr>
        <p:spPr>
          <a:xfrm>
            <a:off x="1546200" y="6021360"/>
            <a:ext cx="61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аладијум(II)-комплекса са дериватом ку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х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МЕДИЦИНСКА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НЕОРГАНСКА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ХЕМ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ЕЛЕМЕНТАРНА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је испитиван велики број паладијум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комплекса са неутралним лигандима, као што с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пирид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атни деривати хинолина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пиразола и тиме је доказана њихова значајна антитуморкса активн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 са лигандима edda-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"/>
          <p:cNvGraphicFramePr/>
          <p:nvPr/>
        </p:nvGraphicFramePr>
        <p:xfrm>
          <a:off x="1763640" y="1943280"/>
          <a:ext cx="532944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43280"/>
                    <a:ext cx="532944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 са лигандима edda-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1200240" y="2205000"/>
          <a:ext cx="66704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205000"/>
                    <a:ext cx="66704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 са лигандима edda-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"/>
          <p:cNvGraphicFramePr/>
          <p:nvPr/>
        </p:nvGraphicFramePr>
        <p:xfrm>
          <a:off x="1476360" y="2421000"/>
          <a:ext cx="56358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21000"/>
                    <a:ext cx="5635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59160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219564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EP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ик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C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S,S)-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dv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(II) са S-алкил дериватима тиосалицилне 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1"/>
          <p:cNvGraphicFramePr/>
          <p:nvPr/>
        </p:nvGraphicFramePr>
        <p:xfrm>
          <a:off x="1042920" y="2924280"/>
          <a:ext cx="71359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924280"/>
                    <a:ext cx="71359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5"/>
          <p:cNvSpPr/>
          <p:nvPr/>
        </p:nvSpPr>
        <p:spPr>
          <a:xfrm>
            <a:off x="1187280" y="5084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бенз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мет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ет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оп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бут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3" descr=""/>
          <p:cNvPicPr/>
          <p:nvPr/>
        </p:nvPicPr>
        <p:blipFill>
          <a:blip r:embed="rId1"/>
          <a:stretch/>
        </p:blipFill>
        <p:spPr>
          <a:xfrm>
            <a:off x="324000" y="1395360"/>
            <a:ext cx="4103640" cy="29750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663840" y="4508640"/>
            <a:ext cx="239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лекса</a:t>
            </a:r>
            <a:br>
              <a:rPr sz="1800"/>
            </a:b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z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osal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fig 1"/>
          <p:cNvPicPr/>
          <p:nvPr/>
        </p:nvPicPr>
        <p:blipFill>
          <a:blip r:embed="rId2"/>
          <a:stretch/>
        </p:blipFill>
        <p:spPr>
          <a:xfrm>
            <a:off x="4859280" y="2924280"/>
            <a:ext cx="4132440" cy="25351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4572000" y="1989000"/>
            <a:ext cx="457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лекса</a:t>
            </a:r>
            <a:br>
              <a:rPr sz="1800"/>
            </a:b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osal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4. год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llar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арадници су открили да комплекс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Cl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де ј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пиридин) показује малу антитуморску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е особине показују комплекси родијума који уместо пиридина имају етилендиамин, 2,2'-бипиридил или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0-фенантрол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слабе антитуморске активности ових комплекса њихова бактериолошка активност је веома израж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X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 =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hC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           [RhCl(1,5-COD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-COD = 1,5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октади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1857240" y="2857680"/>
          <a:ext cx="1785960" cy="16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857680"/>
                    <a:ext cx="178596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4643280" y="3214800"/>
          <a:ext cx="2413080" cy="12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214800"/>
                    <a:ext cx="241308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арн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чно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ав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торно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ј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вир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вићем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м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57160" y="2357280"/>
          <a:ext cx="7391520" cy="393732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и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а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м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а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тен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и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долин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а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зму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вожђа и кобал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1642680"/>
            <a:ext cx="83628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5.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ђ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Ru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(</a:t>
            </a:r>
            <a:r>
              <a:rPr b="0" lang="sr-Latn-C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L-L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3399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L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антролинск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RuCl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u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u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ђ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uCl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ем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388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tCl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pler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дниц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д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B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ем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388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28760" y="521496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линичког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гениталног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4083840" y="5334120"/>
            <a:ext cx="49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азо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7"/>
          <p:cNvGraphicFramePr/>
          <p:nvPr/>
        </p:nvGraphicFramePr>
        <p:xfrm>
          <a:off x="642960" y="2571840"/>
          <a:ext cx="2689200" cy="25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71840"/>
                    <a:ext cx="2689200" cy="25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8"/>
          <p:cNvGraphicFramePr/>
          <p:nvPr/>
        </p:nvGraphicFramePr>
        <p:xfrm>
          <a:off x="4857840" y="2500200"/>
          <a:ext cx="2762280" cy="27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2500200"/>
                    <a:ext cx="276228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стављ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Ru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MSO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u(II)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MSO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њен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о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-Na[RuCl</a:t>
            </a:r>
            <a:r>
              <a:rPr b="0" i="1" lang="sr-Latn-C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MSO)(Him)]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дну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и ме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потиче од латинске речи iris = д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емљиној кори је заступљен у количини од 3∙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минерал је осмир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 и иридијум су метали са највећом густ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актериј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ја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ад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ја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соб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актеријс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мо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с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4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енбер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дни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64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ње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т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еоба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бактерије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заустављ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вал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љ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t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ир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б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миндихлоро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                             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DP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DD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9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терап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стат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г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2000160" y="1714680"/>
          <a:ext cx="4857840" cy="15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1714680"/>
                    <a:ext cx="4857840" cy="15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терапи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жељених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ек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фро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уро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рдио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раћ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адање</a:t>
            </a:r>
            <a:r>
              <a:rPr b="0" lang="sr-Latn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7-29T17:27:15Z</dcterms:modified>
  <cp:revision>136</cp:revision>
  <dc:subject/>
  <dc:title>Slide 1</dc:title>
</cp:coreProperties>
</file>